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D77-F424-4F47-B508-792E0DAD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439-2728-41AB-9AF5-FD896084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C33-7509-4B39-9FC1-428C9F1A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1DF-D8D5-48CF-B249-883000B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C5D-789F-4F6E-B0B4-AF0610E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BC2-5A7C-422F-B49B-79A78F6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C73-3107-487D-B5AE-82FE1419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097-52F9-49C9-B964-FD3A234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8E7-7508-4F43-AA12-0C8B146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335-B2B2-41FD-A7F0-655A3BE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6D0-C157-4819-9A66-86E9587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C2F-EB1C-4CB8-A7D5-B7292FF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B8747-BC47-4B0A-B237-9054FCF5B0C2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Sønderborg castle :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2000" y="20761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Christi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57988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Th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DSCN0323" descr=""/>
          <p:cNvPicPr/>
          <p:nvPr/>
        </p:nvPicPr>
        <p:blipFill>
          <a:blip r:embed=""/>
          <a:stretch/>
        </p:blipFill>
        <p:spPr>
          <a:xfrm>
            <a:off x="5219640" y="1800360"/>
            <a:ext cx="4319640" cy="2270160"/>
          </a:xfrm>
          <a:prstGeom prst="rect">
            <a:avLst/>
          </a:prstGeom>
          <a:ln w="0">
            <a:noFill/>
          </a:ln>
        </p:spPr>
      </p:pic>
      <p:pic>
        <p:nvPicPr>
          <p:cNvPr id="50" name="DSCN0302" descr=""/>
          <p:cNvPicPr/>
          <p:nvPr/>
        </p:nvPicPr>
        <p:blipFill>
          <a:blip r:embed=""/>
          <a:stretch/>
        </p:blipFill>
        <p:spPr>
          <a:xfrm>
            <a:off x="5219640" y="4319640"/>
            <a:ext cx="431964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DSCN0303" descr=""/>
          <p:cNvPicPr/>
          <p:nvPr/>
        </p:nvPicPr>
        <p:blipFill>
          <a:blip r:embed=""/>
          <a:stretch/>
        </p:blipFill>
        <p:spPr>
          <a:xfrm>
            <a:off x="542880" y="4389480"/>
            <a:ext cx="4318200" cy="2449440"/>
          </a:xfrm>
          <a:prstGeom prst="rect">
            <a:avLst/>
          </a:prstGeom>
          <a:ln w="0">
            <a:noFill/>
          </a:ln>
        </p:spPr>
      </p:pic>
      <p:pic>
        <p:nvPicPr>
          <p:cNvPr id="52" name="DSCN0298" descr=""/>
          <p:cNvPicPr/>
          <p:nvPr/>
        </p:nvPicPr>
        <p:blipFill>
          <a:blip r:embed=""/>
          <a:stretch/>
        </p:blipFill>
        <p:spPr>
          <a:xfrm>
            <a:off x="539640" y="1800360"/>
            <a:ext cx="431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unded: Ca.  1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852-1864 was it a danish bar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532-1559 was Christian 2. was a prisoner in the castle's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559 Queen Dorothea took over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she died duke Hans took over the castle in year 15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oday is the castle a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Christia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8.July, he came in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go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he was imprisoned, he was told that his son was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sat in prison until he died in 15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got one of the best rooms in the castle and he live almost a norm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Christia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christian 2. was aprisoner on Soenderborg castle (1532-1549) he walked around the table and made a bigtrench arou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SCN0301" descr=""/>
          <p:cNvPicPr/>
          <p:nvPr/>
        </p:nvPicPr>
        <p:blipFill>
          <a:blip r:embed=""/>
          <a:stretch/>
        </p:blipFill>
        <p:spPr>
          <a:xfrm>
            <a:off x="539640" y="1760400"/>
            <a:ext cx="2160720" cy="4899240"/>
          </a:xfrm>
          <a:prstGeom prst="rect">
            <a:avLst/>
          </a:prstGeom>
          <a:ln w="0">
            <a:noFill/>
          </a:ln>
        </p:spPr>
      </p:pic>
      <p:pic>
        <p:nvPicPr>
          <p:cNvPr id="64" name="DSCN0300" descr=""/>
          <p:cNvPicPr/>
          <p:nvPr/>
        </p:nvPicPr>
        <p:blipFill>
          <a:blip r:embed=""/>
          <a:stretch/>
        </p:blipFill>
        <p:spPr>
          <a:xfrm>
            <a:off x="2701800" y="1800360"/>
            <a:ext cx="21574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8:12:18Z</dcterms:created>
  <dc:creator/>
  <dc:description/>
  <dc:language>en-US</dc:language>
  <cp:lastModifiedBy/>
  <dcterms:modified xsi:type="dcterms:W3CDTF">2010-05-26T08:28:37Z</dcterms:modified>
  <cp:revision>7</cp:revision>
  <dc:subject/>
  <dc:title/>
</cp:coreProperties>
</file>